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wmf" ContentType="image/x-wmf"/>
  <Override PartName="/ppt/media/image13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05BD-3192-481E-BF5A-241F810C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6C93-7319-4C7E-8E1E-FC176228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A952-6C50-4882-AF40-AF869A5A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BE19-775B-41F5-B577-B1BFF862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6D21-F05C-4DEC-A548-6C9B4CF3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01FD-10A9-47F9-BDE7-871E61AB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1CDE-69B1-4813-B5F9-B950CE6B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A989-C4AE-4DB1-8880-8666DD13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F421-B9A0-4407-9841-49352C11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B9B4-C179-49C4-8B6D-6FFFA01F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80EB-BB62-424F-A92E-758FDCC3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86F1-BADD-45EE-A40C-C5A52A88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8C32-C9EF-4F61-B324-0EF8A2524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34760" y="450720"/>
            <a:ext cx="814212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Vocabulary Storm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34760" y="2054160"/>
            <a:ext cx="814212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20e04"/>
                </a:solidFill>
                <a:latin typeface="Arial"/>
              </a:rPr>
              <a:t>Chapter 8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98320" y="380880"/>
            <a:ext cx="8243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Hmmmmmmmm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650960" y="236232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:\Users\mcdx62\AppData\Local\Microsoft\Windows\Temporary Internet Files\Content.IE5\K4XAEV0X\MC900287626[1].wmf"/>
          <p:cNvPicPr/>
          <p:nvPr/>
        </p:nvPicPr>
        <p:blipFill>
          <a:blip r:embed="rId2"/>
          <a:stretch/>
        </p:blipFill>
        <p:spPr>
          <a:xfrm>
            <a:off x="5689440" y="2971800"/>
            <a:ext cx="307836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38360" y="355320"/>
            <a:ext cx="8244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Think-Pair-Sh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638360" y="1743120"/>
            <a:ext cx="3975120" cy="40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8000"/>
                </a:solidFill>
                <a:latin typeface="Arial"/>
              </a:rPr>
              <a:t>Think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bout the pictur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 you see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 you think it means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 these have in common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ere a relationship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5994360" y="121932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Users\mcdx62\AppData\Local\Microsoft\Windows\Temporary Internet Files\Content.IE5\K4XAEV0X\MC900287626[1].wmf"/>
          <p:cNvPicPr/>
          <p:nvPr/>
        </p:nvPicPr>
        <p:blipFill>
          <a:blip r:embed="rId2"/>
          <a:stretch/>
        </p:blipFill>
        <p:spPr>
          <a:xfrm>
            <a:off x="6527880" y="4572000"/>
            <a:ext cx="3078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38360" y="355320"/>
            <a:ext cx="8244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The word is: </a:t>
            </a:r>
            <a:r>
              <a:rPr b="0" lang="en-US" sz="4800" spc="-1" strike="noStrike">
                <a:solidFill>
                  <a:srgbClr val="007e39"/>
                </a:solidFill>
                <a:latin typeface="Arial"/>
              </a:rPr>
              <a:t>exemplif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638360" y="1743120"/>
            <a:ext cx="3975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28560" indent="-51408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oral repe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514080">
              <a:lnSpc>
                <a:spcPct val="95000"/>
              </a:lnSpc>
              <a:buClr>
                <a:srgbClr val="074c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74c1f"/>
                </a:solidFill>
                <a:latin typeface="Arial"/>
              </a:rPr>
              <a:t>Let’s writ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b050"/>
                </a:solidFill>
                <a:latin typeface="Arial"/>
              </a:rPr>
              <a:t>exemplify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syllables on the Vocabulary Acquisition pag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514080">
              <a:lnSpc>
                <a:spcPct val="95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Ex.em.pli.f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4c1f"/>
                </a:solidFill>
                <a:latin typeface="Arial"/>
              </a:rPr>
              <a:t>Add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Verb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Latin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5994360" y="121932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C:\Users\mcdx62\AppData\Local\Microsoft\Windows\Temporary Internet Files\Content.IE5\K4XAEV0X\MC900287626[1].wmf"/>
          <p:cNvPicPr/>
          <p:nvPr/>
        </p:nvPicPr>
        <p:blipFill>
          <a:blip r:embed="rId3"/>
          <a:stretch/>
        </p:blipFill>
        <p:spPr>
          <a:xfrm>
            <a:off x="6527880" y="4572000"/>
            <a:ext cx="3078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803240" y="755640"/>
            <a:ext cx="794412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5a7"/>
                </a:solidFill>
                <a:latin typeface="Arial"/>
              </a:rPr>
              <a:t>DENOTATIVE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117440" y="1523880"/>
            <a:ext cx="861084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074c1f"/>
                </a:solidFill>
                <a:latin typeface="Arial"/>
              </a:rPr>
              <a:t>rea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hora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show or demonstrate by example, to furnish or serve as an exampl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117440" y="4800600"/>
            <a:ext cx="85298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ord in contex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ives of great reformers, such as Martin Luther King Jr. or Ghandi, </a:t>
            </a:r>
            <a:r>
              <a:rPr b="0" lang="en-US" sz="4000" spc="-1" strike="noStrike">
                <a:solidFill>
                  <a:srgbClr val="007e39"/>
                </a:solidFill>
                <a:latin typeface="Arial"/>
              </a:rPr>
              <a:t>exemplif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reatnes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247760" y="1254240"/>
            <a:ext cx="843444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Based on the pictures and the “denotative” definition, 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lang="en-US" sz="5300" spc="-1" strike="noStrike">
                <a:solidFill>
                  <a:srgbClr val="0a05a7"/>
                </a:solidFill>
                <a:latin typeface="Arial"/>
              </a:rPr>
              <a:t>friendly definition </a:t>
            </a: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with your group (in other words, </a:t>
            </a:r>
            <a:r>
              <a:rPr b="1" lang="en-US" sz="5300" spc="-1" strike="noStrike">
                <a:solidFill>
                  <a:srgbClr val="074c1f"/>
                </a:solidFill>
                <a:latin typeface="Arial"/>
              </a:rPr>
              <a:t>put</a:t>
            </a: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 the definition into your own words.)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38360" y="355320"/>
            <a:ext cx="8244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Friendly Defin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638360" y="1743120"/>
            <a:ext cx="397512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es </a:t>
            </a:r>
            <a:r>
              <a:rPr b="0" lang="en-US" sz="3100" spc="-1" strike="noStrike">
                <a:solidFill>
                  <a:srgbClr val="007e39"/>
                </a:solidFill>
                <a:latin typeface="Arial"/>
              </a:rPr>
              <a:t>exemplify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ean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o be an example of, to show or to illustrat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74c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74c1f"/>
                </a:solidFill>
                <a:latin typeface="Arial"/>
              </a:rPr>
              <a:t>Write </a:t>
            </a:r>
            <a:r>
              <a:rPr b="1" lang="en-US" sz="3100" spc="-1" strike="noStrike">
                <a:solidFill>
                  <a:srgbClr val="aa8a14"/>
                </a:solidFill>
                <a:latin typeface="Arial"/>
              </a:rPr>
              <a:t>the friendly definitio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on your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ocabulary Acquisition Shee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5994360" y="121932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Users\mcdx62\AppData\Local\Microsoft\Windows\Temporary Internet Files\Content.IE5\K4XAEV0X\MC900287626[1].wmf"/>
          <p:cNvPicPr/>
          <p:nvPr/>
        </p:nvPicPr>
        <p:blipFill>
          <a:blip r:embed="rId2"/>
          <a:stretch/>
        </p:blipFill>
        <p:spPr>
          <a:xfrm>
            <a:off x="6527880" y="4572000"/>
            <a:ext cx="3078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38360" y="355320"/>
            <a:ext cx="8244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638360" y="1743120"/>
            <a:ext cx="39751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es </a:t>
            </a:r>
            <a:r>
              <a:rPr b="0" lang="en-US" sz="3100" spc="-1" strike="noStrike">
                <a:solidFill>
                  <a:srgbClr val="007e39"/>
                </a:solidFill>
                <a:latin typeface="Arial"/>
              </a:rPr>
              <a:t>exemplify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ok like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60240" y="3048120"/>
            <a:ext cx="2438640" cy="26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o be an example  of, to show or illustrat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994360" y="121932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Users\mcdx62\AppData\Local\Microsoft\Windows\Temporary Internet Files\Content.IE5\K4XAEV0X\MC900287626[1].wmf"/>
          <p:cNvPicPr/>
          <p:nvPr/>
        </p:nvPicPr>
        <p:blipFill>
          <a:blip r:embed="rId2"/>
          <a:stretch/>
        </p:blipFill>
        <p:spPr>
          <a:xfrm>
            <a:off x="6527880" y="4572000"/>
            <a:ext cx="3078000" cy="2430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mcdx62\AppData\Local\Microsoft\Windows\Temporary Internet Files\Content.IE5\FK6ZMFIW\MP900422148[1].jpg"/>
          <p:cNvPicPr/>
          <p:nvPr/>
        </p:nvPicPr>
        <p:blipFill>
          <a:blip r:embed="rId3"/>
          <a:stretch/>
        </p:blipFill>
        <p:spPr>
          <a:xfrm>
            <a:off x="3098880" y="2971800"/>
            <a:ext cx="3103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217520" y="324000"/>
            <a:ext cx="84852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check to see if you understand the w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917720" y="1603440"/>
            <a:ext cx="53848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Arial"/>
              </a:rPr>
              <a:t>THUMBS UP/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217520" y="2382840"/>
            <a:ext cx="848520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a05a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05a7"/>
                </a:solidFill>
                <a:latin typeface="Arial"/>
              </a:rPr>
              <a:t>Local restaurants show much diversity and </a:t>
            </a:r>
            <a:r>
              <a:rPr b="0" lang="en-US" sz="3600" spc="-1" strike="noStrike">
                <a:solidFill>
                  <a:srgbClr val="007e39"/>
                </a:solidFill>
                <a:latin typeface="Arial"/>
              </a:rPr>
              <a:t>exemplify</a:t>
            </a:r>
            <a:r>
              <a:rPr b="0" lang="en-US" sz="3600" spc="-1" strike="noStrike">
                <a:solidFill>
                  <a:srgbClr val="0a05a7"/>
                </a:solidFill>
                <a:latin typeface="Arial"/>
              </a:rPr>
              <a:t> the many cultures of the tow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a05a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a05a7"/>
                </a:solidFill>
                <a:latin typeface="Arial"/>
              </a:rPr>
              <a:t>The man’s torn clothing and old car </a:t>
            </a:r>
            <a:r>
              <a:rPr b="0" lang="en-US" sz="3600" spc="-1" strike="noStrike">
                <a:solidFill>
                  <a:srgbClr val="007e39"/>
                </a:solidFill>
                <a:latin typeface="Arial"/>
              </a:rPr>
              <a:t>exemplify</a:t>
            </a:r>
            <a:r>
              <a:rPr b="0" lang="en-US" sz="3600" spc="-1" strike="noStrike">
                <a:solidFill>
                  <a:srgbClr val="0a05a7"/>
                </a:solidFill>
                <a:latin typeface="Arial"/>
              </a:rPr>
              <a:t> his great wealt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98320" y="380880"/>
            <a:ext cx="8243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Hmmmmmmmm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C:\Users\mcdx62\AppData\Local\Microsoft\Windows\Temporary Internet Files\Content.IE5\FK6ZMFIW\MC900304491[1].wmf"/>
          <p:cNvPicPr/>
          <p:nvPr/>
        </p:nvPicPr>
        <p:blipFill>
          <a:blip r:embed="rId1"/>
          <a:stretch/>
        </p:blipFill>
        <p:spPr>
          <a:xfrm>
            <a:off x="2031840" y="3124080"/>
            <a:ext cx="3038760" cy="3340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5613480" y="3581280"/>
            <a:ext cx="389088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38360" y="355320"/>
            <a:ext cx="8244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Think-Pair-Sh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638360" y="1743120"/>
            <a:ext cx="3975120" cy="40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8000"/>
                </a:solidFill>
                <a:latin typeface="Arial"/>
              </a:rPr>
              <a:t>Think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bout the pictur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 you see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 you think it means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 these have in common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ere a relationship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146640" y="4343400"/>
            <a:ext cx="3764160" cy="2819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Users\mcdx62\AppData\Local\Microsoft\Windows\Temporary Internet Files\Content.IE5\FK6ZMFIW\MC900304491[1].wmf"/>
          <p:cNvPicPr/>
          <p:nvPr/>
        </p:nvPicPr>
        <p:blipFill>
          <a:blip r:embed="rId2"/>
          <a:stretch/>
        </p:blipFill>
        <p:spPr>
          <a:xfrm>
            <a:off x="6603840" y="609480"/>
            <a:ext cx="303876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98320" y="380880"/>
            <a:ext cx="8243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Hmmmmmmmm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8" descr="C:\Users\mcdx62\AppData\Local\Microsoft\Windows\Temporary Internet Files\Content.IE5\FK6ZMFIW\MC900020003[1].wmf"/>
          <p:cNvPicPr/>
          <p:nvPr/>
        </p:nvPicPr>
        <p:blipFill>
          <a:blip r:embed="rId2"/>
          <a:stretch/>
        </p:blipFill>
        <p:spPr>
          <a:xfrm>
            <a:off x="6222960" y="2514600"/>
            <a:ext cx="3235320" cy="3468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C:\Users\mcdx62\AppData\Local\Microsoft\Windows\Temporary Internet Files\Content.IE5\K4XAEV0X\MC900334330[1].wmf"/>
          <p:cNvPicPr/>
          <p:nvPr/>
        </p:nvPicPr>
        <p:blipFill>
          <a:blip r:embed="rId3"/>
          <a:stretch/>
        </p:blipFill>
        <p:spPr>
          <a:xfrm>
            <a:off x="2184480" y="3048120"/>
            <a:ext cx="3510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38360" y="355320"/>
            <a:ext cx="8244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The word is: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attribu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638360" y="1743120"/>
            <a:ext cx="3975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28560" indent="-51408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oral repe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514080">
              <a:lnSpc>
                <a:spcPct val="95000"/>
              </a:lnSpc>
              <a:buClr>
                <a:srgbClr val="074c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74c1f"/>
                </a:solidFill>
                <a:latin typeface="Arial"/>
              </a:rPr>
              <a:t>Let’s writ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attribute</a:t>
            </a:r>
            <a:r>
              <a:rPr b="0" lang="en-US" sz="31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syllables on the Vocabulary Acquisition pag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514080">
              <a:lnSpc>
                <a:spcPct val="95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t.tri.b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4c1f"/>
                </a:solidFill>
                <a:latin typeface="Arial"/>
              </a:rPr>
              <a:t>Add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“noun, Latin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C:\Users\mcdx62\AppData\Local\Microsoft\Windows\Temporary Internet Files\Content.IE5\FK6ZMFIW\MC900304491[1].wmf"/>
          <p:cNvPicPr/>
          <p:nvPr/>
        </p:nvPicPr>
        <p:blipFill>
          <a:blip r:embed="rId1"/>
          <a:stretch/>
        </p:blipFill>
        <p:spPr>
          <a:xfrm>
            <a:off x="6527880" y="1371600"/>
            <a:ext cx="3038400" cy="3340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6146640" y="4343400"/>
            <a:ext cx="3764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1803240" y="755640"/>
            <a:ext cx="794412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5a7"/>
                </a:solidFill>
                <a:latin typeface="Arial"/>
              </a:rPr>
              <a:t>DENOTATIVE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193760" y="1295280"/>
            <a:ext cx="861048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074c1f"/>
                </a:solidFill>
                <a:latin typeface="Arial"/>
              </a:rPr>
              <a:t>rea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hora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quality belonging to a person, thing or group,  a characteristic, or property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041480" y="5181480"/>
            <a:ext cx="852948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ord in contex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llness and great basketball skill are two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ttribut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Koby Brian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1247760" y="1254240"/>
            <a:ext cx="843444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Based on the pictures and the “denotative” definition, 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lang="en-US" sz="5300" spc="-1" strike="noStrike">
                <a:solidFill>
                  <a:srgbClr val="0a05a7"/>
                </a:solidFill>
                <a:latin typeface="Arial"/>
              </a:rPr>
              <a:t>friendly definition </a:t>
            </a: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with your group (in other words, </a:t>
            </a:r>
            <a:r>
              <a:rPr b="1" lang="en-US" sz="5300" spc="-1" strike="noStrike">
                <a:solidFill>
                  <a:srgbClr val="074c1f"/>
                </a:solidFill>
                <a:latin typeface="Arial"/>
              </a:rPr>
              <a:t>put</a:t>
            </a: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 the definition into your own words.)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38360" y="355320"/>
            <a:ext cx="8244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Friendly Defin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638360" y="1743120"/>
            <a:ext cx="397512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es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attribute</a:t>
            </a:r>
            <a:r>
              <a:rPr b="0" lang="en-US" sz="3100" spc="-1" strike="noStrike">
                <a:solidFill>
                  <a:srgbClr val="007e39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ean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 quality or feature of a person or thing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74c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74c1f"/>
                </a:solidFill>
                <a:latin typeface="Arial"/>
              </a:rPr>
              <a:t>Write </a:t>
            </a:r>
            <a:r>
              <a:rPr b="1" lang="en-US" sz="3100" spc="-1" strike="noStrike">
                <a:solidFill>
                  <a:srgbClr val="aa8a14"/>
                </a:solidFill>
                <a:latin typeface="Arial"/>
              </a:rPr>
              <a:t>the friendly definitio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on your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ocabulary Acquisition Shee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C:\Users\mcdx62\AppData\Local\Microsoft\Windows\Temporary Internet Files\Content.IE5\FK6ZMFIW\MC900304491[1].wmf"/>
          <p:cNvPicPr/>
          <p:nvPr/>
        </p:nvPicPr>
        <p:blipFill>
          <a:blip r:embed="rId1"/>
          <a:stretch/>
        </p:blipFill>
        <p:spPr>
          <a:xfrm>
            <a:off x="6527880" y="1371600"/>
            <a:ext cx="3038400" cy="3340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6146640" y="4343400"/>
            <a:ext cx="3764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38360" y="355320"/>
            <a:ext cx="8244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638360" y="1743120"/>
            <a:ext cx="39751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es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attribute</a:t>
            </a:r>
            <a:r>
              <a:rPr b="0" lang="en-US" sz="3100" spc="-1" strike="noStrike">
                <a:solidFill>
                  <a:srgbClr val="007e39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ok like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660240" y="3048120"/>
            <a:ext cx="2438640" cy="26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 quality or feature of a person or thing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C:\Users\mcdx62\AppData\Local\Microsoft\Windows\Temporary Internet Files\Content.IE5\K4XAEV0X\MC900287626[1].wmf"/>
          <p:cNvPicPr/>
          <p:nvPr/>
        </p:nvPicPr>
        <p:blipFill>
          <a:blip r:embed="rId1"/>
          <a:stretch/>
        </p:blipFill>
        <p:spPr>
          <a:xfrm>
            <a:off x="6527880" y="4572000"/>
            <a:ext cx="3078000" cy="2430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Users\mcdx62\AppData\Local\Microsoft\Windows\Temporary Internet Files\Content.IE5\FK6ZMFIW\MC900304491[1].wmf"/>
          <p:cNvPicPr/>
          <p:nvPr/>
        </p:nvPicPr>
        <p:blipFill>
          <a:blip r:embed="rId2"/>
          <a:stretch/>
        </p:blipFill>
        <p:spPr>
          <a:xfrm>
            <a:off x="6527880" y="1371600"/>
            <a:ext cx="3038400" cy="3340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6146640" y="4343400"/>
            <a:ext cx="3764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1217520" y="324000"/>
            <a:ext cx="84852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check to see if you understand the w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917720" y="1603440"/>
            <a:ext cx="53848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Arial"/>
              </a:rPr>
              <a:t>THUMBS UP/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217520" y="2382840"/>
            <a:ext cx="848520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a05a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05a7"/>
                </a:solidFill>
                <a:latin typeface="Arial"/>
              </a:rPr>
              <a:t>On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ttribute</a:t>
            </a:r>
            <a:r>
              <a:rPr b="0" lang="en-US" sz="3600" spc="-1" strike="noStrike">
                <a:solidFill>
                  <a:srgbClr val="0a05a7"/>
                </a:solidFill>
                <a:latin typeface="Arial"/>
              </a:rPr>
              <a:t> of a teacher is to have little knowledge of how to exemplify learning new information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a05a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a05a7"/>
                </a:solidFill>
                <a:latin typeface="Arial"/>
              </a:rPr>
              <a:t>Modern cars have many new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ttributes</a:t>
            </a:r>
            <a:r>
              <a:rPr b="0" lang="en-US" sz="3600" spc="-1" strike="noStrike">
                <a:solidFill>
                  <a:srgbClr val="0a05a7"/>
                </a:solidFill>
                <a:latin typeface="Arial"/>
              </a:rPr>
              <a:t>, such as better gas mile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98320" y="380880"/>
            <a:ext cx="8243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Hmmmmmmmm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C:\Users\mcdx62\AppData\Local\Microsoft\Windows\Temporary Internet Files\Content.IE5\FK6ZMFIW\MC900078811[1].wmf"/>
          <p:cNvPicPr/>
          <p:nvPr/>
        </p:nvPicPr>
        <p:blipFill>
          <a:blip r:embed="rId1"/>
          <a:stretch/>
        </p:blipFill>
        <p:spPr>
          <a:xfrm>
            <a:off x="1041480" y="2057400"/>
            <a:ext cx="3762360" cy="351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:\Users\mcdx62\AppData\Local\Microsoft\Windows\Temporary Internet Files\Content.IE5\W7WWR0VY\MC900334296[1].wmf"/>
          <p:cNvPicPr/>
          <p:nvPr/>
        </p:nvPicPr>
        <p:blipFill>
          <a:blip r:embed="rId2"/>
          <a:stretch/>
        </p:blipFill>
        <p:spPr>
          <a:xfrm>
            <a:off x="5537160" y="2666880"/>
            <a:ext cx="42512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38360" y="355320"/>
            <a:ext cx="8244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Think-Pair-Sh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638360" y="1743120"/>
            <a:ext cx="3975120" cy="40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8000"/>
                </a:solidFill>
                <a:latin typeface="Arial"/>
              </a:rPr>
              <a:t>Think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bout the pictur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 you see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 you think it means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 these have in common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ere a relationship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C:\Users\mcdx62\AppData\Local\Microsoft\Windows\Temporary Internet Files\Content.IE5\FK6ZMFIW\MC900078811[1].wmf"/>
          <p:cNvPicPr/>
          <p:nvPr/>
        </p:nvPicPr>
        <p:blipFill>
          <a:blip r:embed="rId1"/>
          <a:stretch/>
        </p:blipFill>
        <p:spPr>
          <a:xfrm>
            <a:off x="6451560" y="1600200"/>
            <a:ext cx="2971800" cy="2776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C:\Users\mcdx62\AppData\Local\Microsoft\Windows\Temporary Internet Files\Content.IE5\W7WWR0VY\MC900334296[1].wmf"/>
          <p:cNvPicPr/>
          <p:nvPr/>
        </p:nvPicPr>
        <p:blipFill>
          <a:blip r:embed="rId2"/>
          <a:stretch/>
        </p:blipFill>
        <p:spPr>
          <a:xfrm>
            <a:off x="6146640" y="4572000"/>
            <a:ext cx="29718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38360" y="355320"/>
            <a:ext cx="8244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The word is: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enig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638360" y="1743120"/>
            <a:ext cx="3975120" cy="32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28560" indent="-51408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oral repe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514080">
              <a:lnSpc>
                <a:spcPct val="95000"/>
              </a:lnSpc>
              <a:buClr>
                <a:srgbClr val="074c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74c1f"/>
                </a:solidFill>
                <a:latin typeface="Arial"/>
              </a:rPr>
              <a:t>Let’s writ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enigma</a:t>
            </a:r>
            <a:r>
              <a:rPr b="0" lang="en-US" sz="31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syllables on the Vocabulary Acquisition pag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514080">
              <a:lnSpc>
                <a:spcPct val="95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.nig.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4c1f"/>
                </a:solidFill>
                <a:latin typeface="Arial"/>
              </a:rPr>
              <a:t>Add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“Noun, Latin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C:\Users\mcdx62\AppData\Local\Microsoft\Windows\Temporary Internet Files\Content.IE5\FK6ZMFIW\MC900078811[1].wmf"/>
          <p:cNvPicPr/>
          <p:nvPr/>
        </p:nvPicPr>
        <p:blipFill>
          <a:blip r:embed="rId1"/>
          <a:stretch/>
        </p:blipFill>
        <p:spPr>
          <a:xfrm>
            <a:off x="6451560" y="1600200"/>
            <a:ext cx="2971800" cy="2776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Users\mcdx62\AppData\Local\Microsoft\Windows\Temporary Internet Files\Content.IE5\W7WWR0VY\MC900334296[1].wmf"/>
          <p:cNvPicPr/>
          <p:nvPr/>
        </p:nvPicPr>
        <p:blipFill>
          <a:blip r:embed="rId2"/>
          <a:stretch/>
        </p:blipFill>
        <p:spPr>
          <a:xfrm>
            <a:off x="6146640" y="4572000"/>
            <a:ext cx="29718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1803240" y="755640"/>
            <a:ext cx="794412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5a7"/>
                </a:solidFill>
                <a:latin typeface="Arial"/>
              </a:rPr>
              <a:t>DENOTATIVE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117440" y="1523880"/>
            <a:ext cx="86108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074c1f"/>
                </a:solidFill>
                <a:latin typeface="Arial"/>
              </a:rPr>
              <a:t>rea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hora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puzzling or inexplicable occurrence or situation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117440" y="4800600"/>
            <a:ext cx="85298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ord in contex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xplorer’s disappearance is a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igm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at has caused much speculation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38360" y="355320"/>
            <a:ext cx="8244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Think-Pair-Sh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638360" y="1743120"/>
            <a:ext cx="3975120" cy="40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8000"/>
                </a:solidFill>
                <a:latin typeface="Arial"/>
              </a:rPr>
              <a:t>Think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bout the pictur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 you see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 you think it means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 these have in common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ere a relationship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Users\mcdx62\AppData\Local\Microsoft\Windows\Temporary Internet Files\Content.IE5\K4XAEV0X\MC900334330[1].wmf"/>
          <p:cNvPicPr/>
          <p:nvPr/>
        </p:nvPicPr>
        <p:blipFill>
          <a:blip r:embed="rId2"/>
          <a:stretch/>
        </p:blipFill>
        <p:spPr>
          <a:xfrm>
            <a:off x="6299280" y="1143000"/>
            <a:ext cx="3510000" cy="2438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C:\Users\mcdx62\AppData\Local\Microsoft\Windows\Temporary Internet Files\Content.IE5\FK6ZMFIW\MC900020003[1].wmf"/>
          <p:cNvPicPr/>
          <p:nvPr/>
        </p:nvPicPr>
        <p:blipFill>
          <a:blip r:embed="rId3"/>
          <a:stretch/>
        </p:blipFill>
        <p:spPr>
          <a:xfrm>
            <a:off x="6375240" y="3886200"/>
            <a:ext cx="32353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1247760" y="1254240"/>
            <a:ext cx="843444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Based on the pictures and the “denotative” definition, 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lang="en-US" sz="5300" spc="-1" strike="noStrike">
                <a:solidFill>
                  <a:srgbClr val="0a05a7"/>
                </a:solidFill>
                <a:latin typeface="Arial"/>
              </a:rPr>
              <a:t>friendly definition </a:t>
            </a: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with your group (in other words, </a:t>
            </a:r>
            <a:r>
              <a:rPr b="1" lang="en-US" sz="5300" spc="-1" strike="noStrike">
                <a:solidFill>
                  <a:srgbClr val="074c1f"/>
                </a:solidFill>
                <a:latin typeface="Arial"/>
              </a:rPr>
              <a:t>put</a:t>
            </a: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 the definition into your own words.)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38360" y="355320"/>
            <a:ext cx="8244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Friendly Defin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638360" y="1743120"/>
            <a:ext cx="3975120" cy="40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es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enigma</a:t>
            </a:r>
            <a:r>
              <a:rPr b="0" lang="en-US" sz="3100" spc="-1" strike="noStrike">
                <a:solidFill>
                  <a:srgbClr val="007e39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ean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 mystery or a puzzle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74c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74c1f"/>
                </a:solidFill>
                <a:latin typeface="Arial"/>
              </a:rPr>
              <a:t>Write </a:t>
            </a:r>
            <a:r>
              <a:rPr b="1" lang="en-US" sz="3100" spc="-1" strike="noStrike">
                <a:solidFill>
                  <a:srgbClr val="aa8a14"/>
                </a:solidFill>
                <a:latin typeface="Arial"/>
              </a:rPr>
              <a:t>the friendly definitio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on your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ocabulary Acquisition Shee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C:\Users\mcdx62\AppData\Local\Microsoft\Windows\Temporary Internet Files\Content.IE5\W7WWR0VY\MC900334296[1].wmf"/>
          <p:cNvPicPr/>
          <p:nvPr/>
        </p:nvPicPr>
        <p:blipFill>
          <a:blip r:embed="rId1"/>
          <a:stretch/>
        </p:blipFill>
        <p:spPr>
          <a:xfrm>
            <a:off x="6146640" y="4572000"/>
            <a:ext cx="2971800" cy="2449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mcdx62\AppData\Local\Microsoft\Windows\Temporary Internet Files\Content.IE5\FK6ZMFIW\MC900078811[1].wmf"/>
          <p:cNvPicPr/>
          <p:nvPr/>
        </p:nvPicPr>
        <p:blipFill>
          <a:blip r:embed="rId2"/>
          <a:stretch/>
        </p:blipFill>
        <p:spPr>
          <a:xfrm>
            <a:off x="6451560" y="1600200"/>
            <a:ext cx="297180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38360" y="355320"/>
            <a:ext cx="8244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638360" y="1743120"/>
            <a:ext cx="39751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es </a:t>
            </a:r>
            <a:r>
              <a:rPr b="0" lang="en-US" sz="3100" spc="-1" strike="noStrike">
                <a:solidFill>
                  <a:srgbClr val="007e39"/>
                </a:solidFill>
                <a:latin typeface="Arial"/>
              </a:rPr>
              <a:t>enigma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ok like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60240" y="3048120"/>
            <a:ext cx="243864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 mystery or a puzzle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C:\Users\mcdx62\AppData\Local\Microsoft\Windows\Temporary Internet Files\Content.IE5\FK6ZMFIW\MC900078811[1].wmf"/>
          <p:cNvPicPr/>
          <p:nvPr/>
        </p:nvPicPr>
        <p:blipFill>
          <a:blip r:embed="rId1"/>
          <a:stretch/>
        </p:blipFill>
        <p:spPr>
          <a:xfrm>
            <a:off x="6451560" y="1600200"/>
            <a:ext cx="2971800" cy="2776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C:\Users\mcdx62\AppData\Local\Microsoft\Windows\Temporary Internet Files\Content.IE5\W7WWR0VY\MC900334296[1].wmf"/>
          <p:cNvPicPr/>
          <p:nvPr/>
        </p:nvPicPr>
        <p:blipFill>
          <a:blip r:embed="rId2"/>
          <a:stretch/>
        </p:blipFill>
        <p:spPr>
          <a:xfrm>
            <a:off x="6146640" y="4572000"/>
            <a:ext cx="29718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1217520" y="324000"/>
            <a:ext cx="84852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check to see if you understand the w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917720" y="1603440"/>
            <a:ext cx="53848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Arial"/>
              </a:rPr>
              <a:t>THUMBS UP/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217520" y="2382840"/>
            <a:ext cx="848520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a05a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05a7"/>
                </a:solidFill>
                <a:latin typeface="Arial"/>
              </a:rPr>
              <a:t>How the robber got into the house was an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igma</a:t>
            </a:r>
            <a:r>
              <a:rPr b="0" lang="en-US" sz="3600" spc="-1" strike="noStrike">
                <a:solidFill>
                  <a:srgbClr val="0a05a7"/>
                </a:solidFill>
                <a:latin typeface="Arial"/>
              </a:rPr>
              <a:t> to the polic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a05a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05a7"/>
                </a:solidFill>
                <a:latin typeface="Arial"/>
              </a:rPr>
              <a:t>The math problem was an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igma</a:t>
            </a:r>
            <a:r>
              <a:rPr b="0" lang="en-US" sz="3600" spc="-1" strike="noStrike">
                <a:solidFill>
                  <a:srgbClr val="0a05a7"/>
                </a:solidFill>
                <a:latin typeface="Arial"/>
              </a:rPr>
              <a:t> and was so easy for students to solv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34760" y="450720"/>
            <a:ext cx="814212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Vocabulary Storm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634760" y="2054160"/>
            <a:ext cx="814212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20e04"/>
                </a:solidFill>
                <a:latin typeface="Arial"/>
              </a:rPr>
              <a:t>Day 2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38360" y="355320"/>
            <a:ext cx="8244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The word is: </a:t>
            </a:r>
            <a:r>
              <a:rPr b="0" lang="en-US" sz="4800" spc="-1" strike="noStrike">
                <a:solidFill>
                  <a:srgbClr val="007e39"/>
                </a:solidFill>
                <a:latin typeface="Arial"/>
              </a:rPr>
              <a:t>discer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638360" y="1743120"/>
            <a:ext cx="3975120" cy="32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28560" indent="-51408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oral repe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514080">
              <a:lnSpc>
                <a:spcPct val="95000"/>
              </a:lnSpc>
              <a:buClr>
                <a:srgbClr val="074c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74c1f"/>
                </a:solidFill>
                <a:latin typeface="Arial"/>
              </a:rPr>
              <a:t>Let’s writ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b050"/>
                </a:solidFill>
                <a:latin typeface="Arial"/>
              </a:rPr>
              <a:t>discern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syllables on the Vocabulary Acquisition pag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514080">
              <a:lnSpc>
                <a:spcPct val="95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Dis.ce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4c1f"/>
                </a:solidFill>
                <a:latin typeface="Arial"/>
              </a:rPr>
              <a:t>Add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Verb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Latin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9" descr="C:\Users\mcdx62\AppData\Local\Microsoft\Windows\Temporary Internet Files\Content.IE5\K4XAEV0X\MC900334330[1].wmf"/>
          <p:cNvPicPr/>
          <p:nvPr/>
        </p:nvPicPr>
        <p:blipFill>
          <a:blip r:embed="rId2"/>
          <a:stretch/>
        </p:blipFill>
        <p:spPr>
          <a:xfrm>
            <a:off x="6299280" y="1143000"/>
            <a:ext cx="3510000" cy="2438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C:\Users\mcdx62\AppData\Local\Microsoft\Windows\Temporary Internet Files\Content.IE5\FK6ZMFIW\MC900020003[1].wmf"/>
          <p:cNvPicPr/>
          <p:nvPr/>
        </p:nvPicPr>
        <p:blipFill>
          <a:blip r:embed="rId3"/>
          <a:stretch/>
        </p:blipFill>
        <p:spPr>
          <a:xfrm>
            <a:off x="6375240" y="3886200"/>
            <a:ext cx="32353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803240" y="755640"/>
            <a:ext cx="794412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5a7"/>
                </a:solidFill>
                <a:latin typeface="Arial"/>
              </a:rPr>
              <a:t>DENOTATIVE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270080" y="1371600"/>
            <a:ext cx="86104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074c1f"/>
                </a:solidFill>
                <a:latin typeface="Arial"/>
              </a:rPr>
              <a:t>rea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hora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distinguish mentally; to recognize as distinct or different</a:t>
            </a: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117440" y="4800600"/>
            <a:ext cx="85298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ord in contex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experienced jeweler can easily discern whether a diamond is genuine or fak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247760" y="1254240"/>
            <a:ext cx="843444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Based on the pictures and the “denotative” definition, 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lang="en-US" sz="5300" spc="-1" strike="noStrike">
                <a:solidFill>
                  <a:srgbClr val="0a05a7"/>
                </a:solidFill>
                <a:latin typeface="Arial"/>
              </a:rPr>
              <a:t>friendly definition </a:t>
            </a: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with your group (in other words, </a:t>
            </a:r>
            <a:r>
              <a:rPr b="1" lang="en-US" sz="5300" spc="-1" strike="noStrike">
                <a:solidFill>
                  <a:srgbClr val="074c1f"/>
                </a:solidFill>
                <a:latin typeface="Arial"/>
              </a:rPr>
              <a:t>put</a:t>
            </a: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 the definition into your own words.)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38360" y="355320"/>
            <a:ext cx="8244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Friendly Defin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638360" y="1743120"/>
            <a:ext cx="397512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es </a:t>
            </a:r>
            <a:r>
              <a:rPr b="0" lang="en-US" sz="3100" spc="-1" strike="noStrike">
                <a:solidFill>
                  <a:srgbClr val="007e39"/>
                </a:solidFill>
                <a:latin typeface="Arial"/>
              </a:rPr>
              <a:t>discern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ean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o see clearly, to recognize, to detect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74c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74c1f"/>
                </a:solidFill>
                <a:latin typeface="Arial"/>
              </a:rPr>
              <a:t>Write </a:t>
            </a:r>
            <a:r>
              <a:rPr b="1" lang="en-US" sz="3100" spc="-1" strike="noStrike">
                <a:solidFill>
                  <a:srgbClr val="aa8a14"/>
                </a:solidFill>
                <a:latin typeface="Arial"/>
              </a:rPr>
              <a:t>the friendly definitio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on your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ocabulary Acquisition Shee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9" descr="C:\Users\mcdx62\AppData\Local\Microsoft\Windows\Temporary Internet Files\Content.IE5\K4XAEV0X\MC900334330[1].wmf"/>
          <p:cNvPicPr/>
          <p:nvPr/>
        </p:nvPicPr>
        <p:blipFill>
          <a:blip r:embed="rId2"/>
          <a:stretch/>
        </p:blipFill>
        <p:spPr>
          <a:xfrm>
            <a:off x="6070680" y="1371600"/>
            <a:ext cx="3510000" cy="251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C:\Users\mcdx62\AppData\Local\Microsoft\Windows\Temporary Internet Files\Content.IE5\FK6ZMFIW\MC900020003[1].wmf"/>
          <p:cNvPicPr/>
          <p:nvPr/>
        </p:nvPicPr>
        <p:blipFill>
          <a:blip r:embed="rId3"/>
          <a:stretch/>
        </p:blipFill>
        <p:spPr>
          <a:xfrm>
            <a:off x="6375240" y="3886200"/>
            <a:ext cx="32353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38360" y="355320"/>
            <a:ext cx="8244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638360" y="1743120"/>
            <a:ext cx="39751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es </a:t>
            </a:r>
            <a:r>
              <a:rPr b="0" lang="en-US" sz="3100" spc="-1" strike="noStrike">
                <a:solidFill>
                  <a:srgbClr val="007e39"/>
                </a:solidFill>
                <a:latin typeface="Arial"/>
              </a:rPr>
              <a:t>discern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ok like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638360" y="4778280"/>
            <a:ext cx="207000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see clearly, to recognize, to detect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9" descr="C:\Users\mcdx62\AppData\Local\Microsoft\Windows\Temporary Internet Files\Content.IE5\K4XAEV0X\MC900334330[1].wmf"/>
          <p:cNvPicPr/>
          <p:nvPr/>
        </p:nvPicPr>
        <p:blipFill>
          <a:blip r:embed="rId2"/>
          <a:stretch/>
        </p:blipFill>
        <p:spPr>
          <a:xfrm>
            <a:off x="6070680" y="1371600"/>
            <a:ext cx="351000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:\Users\mcdx62\AppData\Local\Microsoft\Windows\Temporary Internet Files\Content.IE5\FK6ZMFIW\MC900020003[1].wmf"/>
          <p:cNvPicPr/>
          <p:nvPr/>
        </p:nvPicPr>
        <p:blipFill>
          <a:blip r:embed="rId3"/>
          <a:stretch/>
        </p:blipFill>
        <p:spPr>
          <a:xfrm>
            <a:off x="6375240" y="3886200"/>
            <a:ext cx="3235320" cy="3468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4"/>
          <a:stretch/>
        </p:blipFill>
        <p:spPr>
          <a:xfrm>
            <a:off x="3556080" y="312408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217520" y="324000"/>
            <a:ext cx="84852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check to see if you understand the w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917720" y="1603440"/>
            <a:ext cx="53848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Arial"/>
              </a:rPr>
              <a:t>THUMBS UP/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217520" y="2382840"/>
            <a:ext cx="848520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a05a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05a7"/>
                </a:solidFill>
                <a:latin typeface="Arial"/>
              </a:rPr>
              <a:t>Sue’s hair extension looked so real that it was difficult to </a:t>
            </a:r>
            <a:r>
              <a:rPr b="0" lang="en-US" sz="3600" spc="-1" strike="noStrike">
                <a:solidFill>
                  <a:srgbClr val="007e39"/>
                </a:solidFill>
                <a:latin typeface="Arial"/>
              </a:rPr>
              <a:t>discern</a:t>
            </a:r>
            <a:r>
              <a:rPr b="0" lang="en-US" sz="3600" spc="-1" strike="noStrike">
                <a:solidFill>
                  <a:srgbClr val="0a05a7"/>
                </a:solidFill>
                <a:latin typeface="Arial"/>
              </a:rPr>
              <a:t> which parts were her real hai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a05a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a05a7"/>
                </a:solidFill>
                <a:latin typeface="Arial"/>
              </a:rPr>
              <a:t>The black car was so shiny and clean that it was difficult to </a:t>
            </a:r>
            <a:r>
              <a:rPr b="0" lang="en-US" sz="3600" spc="-1" strike="noStrike">
                <a:solidFill>
                  <a:srgbClr val="007e39"/>
                </a:solidFill>
                <a:latin typeface="Arial"/>
              </a:rPr>
              <a:t>discern</a:t>
            </a:r>
            <a:r>
              <a:rPr b="0" lang="en-US" sz="3600" spc="-1" strike="noStrike">
                <a:solidFill>
                  <a:srgbClr val="0a05a7"/>
                </a:solidFill>
                <a:latin typeface="Arial"/>
              </a:rPr>
              <a:t> the large streak of dust down the sid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mcdx62</cp:lastModifiedBy>
  <dcterms:modified xsi:type="dcterms:W3CDTF">2012-02-28T06:35:14Z</dcterms:modified>
  <cp:revision>24</cp:revision>
  <dc:subject/>
  <dc:title>PowerPoint Presentation</dc:title>
</cp:coreProperties>
</file>